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B1AC-6D4D-4367-83C9-6F5BC1E6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5DB3-E59A-4C71-B3C3-2F1CB900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AFC6-0208-4899-BD9E-7AF712AC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2551-10C0-4981-B2B5-F291B881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38E7-B08C-4B38-BA95-046337B7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33C7-35E5-469A-ADC2-8172C9C1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2572-F58F-45DD-AA0E-5932AD25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FA60-2BF4-4E99-86EC-E8801988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1D22-5B73-400A-A761-49FD0D3F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87E7-D614-4BDE-AACA-278E53FB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B864-4D6E-4F79-B208-7631D1B4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764E-6C32-4AD8-8CFC-3921CED7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C225-15D4-4230-9338-7ED19435C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fifitystates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http://www.enchantedlearning.com/usa/states/indiana/" TargetMode="External"/><Relationship Id="rId4" Type="http://schemas.openxmlformats.org/officeDocument/2006/relationships/hyperlink" Target="http://www.enchantedlearning.com/usa/states/indiana/" TargetMode="External"/><Relationship Id="rId5" Type="http://schemas.openxmlformats.org/officeDocument/2006/relationships/hyperlink" Target="http://www.enchantedlearning.com/usa/statesbw/indiana.s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nchantedlearning.com/usa/statesbw/indiana.shtml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postcardsfrom.com/t1/991101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66680" y="609480"/>
            <a:ext cx="70866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dian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7543800" y="4568760"/>
            <a:ext cx="1600200" cy="2288520"/>
          </a:xfrm>
          <a:prstGeom prst="rect">
            <a:avLst/>
          </a:prstGeom>
          <a:solidFill>
            <a:srgbClr val="9f63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ara Wis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666880" y="6324480"/>
            <a:ext cx="381240" cy="533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5910120"/>
            <a:ext cx="4267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ndiana Song: Fifty States,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 Indiana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0/25/11,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ifitystate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3822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ital: Indianapol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: 6,483,80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ered the Union: December 11,1816  19th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to: The cross roads of Ame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ckname: Hoosier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wer: Peo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d: Card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g: On the banks of the Waba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 behind name: Latinized name in honor of Indian trib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24480" y="1676520"/>
            <a:ext cx="2362320" cy="1981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324480" y="3657600"/>
            <a:ext cx="2362320" cy="16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ony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wer,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diana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tober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, 2011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nchantedlearning.com/usa/states/indiana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2362320"/>
            <a:ext cx="5029200" cy="2655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324480" y="1143000"/>
            <a:ext cx="2362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a picture of the states flower the peo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029200"/>
            <a:ext cx="5029200" cy="106740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this picture there is the state Indiana highlighted in yellow on the map, and on the right is the capitol of Indiana on the yellow state, Indiana October 18,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70000" y="990720"/>
            <a:ext cx="3097080" cy="4724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43000" y="0"/>
            <a:ext cx="3124080" cy="1067400"/>
          </a:xfrm>
          <a:prstGeom prst="rect">
            <a:avLst/>
          </a:prstGeom>
          <a:solidFill>
            <a:srgbClr val="dcd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the state of Indiana it is sho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the capitols and river all over the am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019920" y="2057400"/>
            <a:ext cx="2895480" cy="2362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19920" y="1523880"/>
            <a:ext cx="2895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Indiana's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rd the card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4419720"/>
            <a:ext cx="293040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bird the cardinal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diana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ctober 25 2011, http://www.enchantedlearning.com/usa/states/indiana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5880" y="5715000"/>
            <a:ext cx="5045400" cy="580680"/>
          </a:xfrm>
          <a:prstGeom prst="rect">
            <a:avLst/>
          </a:prstGeom>
          <a:solidFill>
            <a:srgbClr val="dcd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diana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ctober 25 201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nchantedlearning.com/usa/states/indi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All images Copyright © 1997 - 2000 WriteLine. All Rights Reserved. Indianapolis IN Capitol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876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05120" y="152280"/>
            <a:ext cx="41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Indiana's state Capitol, Indianapol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89280" y="57754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01400" y="5562720"/>
            <a:ext cx="644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the capitol of Indiana on a post car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diana, October 25 201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991101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2:17Z</dcterms:created>
  <dc:creator>install</dc:creator>
  <dc:description/>
  <dc:language>en-US</dc:language>
  <cp:lastModifiedBy>install</cp:lastModifiedBy>
  <dcterms:modified xsi:type="dcterms:W3CDTF">2011-10-26T13:55:58Z</dcterms:modified>
  <cp:revision>9</cp:revision>
  <dc:subject/>
  <dc:title>Slide 1</dc:title>
</cp:coreProperties>
</file>